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7A6-6CC3-4C45-9C9C-19101A7A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586-08A7-4483-97DA-8A58D71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606-AB1F-4D6F-8A33-4D7EDF88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74B-4DE6-4695-880F-CBEEBEDA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7592-9E20-49F6-BDCB-001320A3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CD22-E4FB-4132-A25F-F7F9D54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7CCC-C9F2-4820-B2B0-E9C2C67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676-62F6-45D7-9DA2-EFCB297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6D49-FC6F-4BBD-BE13-1749708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741-1C3A-41C4-BB9B-827074C1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B53D-BE99-4503-926A-178847C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AED-479B-472C-B71B-1E78CA1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DF24-9D38-40F6-BFA4-9ED6439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06C2-B914-4134-BC6C-E89A081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F3F6-1333-451F-A1A1-F269DBD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486-3566-47E2-A7AC-C497C5EF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CFBE-3234-42E2-86FC-85C67CCB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D07-E8FE-41A1-A1D3-36E99721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553-CF4D-4302-89F1-AAAAA512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FB1-0819-4B97-97EA-F76F5253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B24-83AF-42C7-9F7E-4445484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100-5463-4DBA-8BFF-9FA25B3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F3C-DADB-4C21-ACF9-5600FAA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338-1505-4BEF-B0A5-6B5B3C1C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4874-4524-4112-A32A-DD17D04ACD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C313-8CDC-4DE3-8CCD-2C6AA24659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lsolve.co.uk/site/tech/hib-tip-pitfall.php?name=n1selects" TargetMode="External"/><Relationship Id="rId3" Type="http://schemas.openxmlformats.org/officeDocument/2006/relationships/hyperlink" Target="http://www.realsolve.co.uk/site/tech/hib-tip-pitfall.php?name=why-lazy" TargetMode="External"/><Relationship Id="rId4" Type="http://schemas.openxmlformats.org/officeDocument/2006/relationships/hyperlink" Target="http://www.realsolve.co.uk/site/tech/hib-tip-pitfall.php?name=why-lazy" TargetMode="External"/><Relationship Id="rId5" Type="http://schemas.openxmlformats.org/officeDocument/2006/relationships/hyperlink" Target="http://www.realsolve.co.uk/site/tech/hib-tip-pitfall.php?name=why-lazy" TargetMode="External"/><Relationship Id="rId6" Type="http://schemas.openxmlformats.org/officeDocument/2006/relationships/hyperlink" Target="http://www.realsolve.co.uk/site/tech/hib-tip-pitfall.php?name=why-lazy" TargetMode="External"/><Relationship Id="rId7" Type="http://schemas.openxmlformats.org/officeDocument/2006/relationships/hyperlink" Target="http://www.realsolve.co.uk/site/tech/hib-tip-pitfall.php?name=why-lazy" TargetMode="External"/><Relationship Id="rId8" Type="http://schemas.openxmlformats.org/officeDocument/2006/relationships/hyperlink" Target="http://www.realsolve.co.uk/site/tech/hib-tip-pitfall.php?name=why-lazy" TargetMode="External"/><Relationship Id="rId9" Type="http://schemas.openxmlformats.org/officeDocument/2006/relationships/hyperlink" Target="http://www.realsolve.co.uk/site/tech/hib-tip-pitfall.php?name=why-lazy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Utilizando a API do Hiberna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possível utilizar a API exclusiva do Hibernate mesmo quando o utilizamos como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o J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método getDelegate() retorna uma instância que implementa a interface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org.hibernate.S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76597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ssociações – Fetch M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a configuração default do Hibernate3, associações simples e coleções são recuperadas através de estratégias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cessar uma associação lazy fora do contexto da transação resultará em uma exce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possível estabelecer estratégia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fetch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ara associações simples e cole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etchMode.DEFAULT (mapping fi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etchMode.JOIN (“Eager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etchMode.SELECT (“Lazy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ais inform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ealsolve.co.uk/site/tech/hib-tip-pitfall.php?name=n1sel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realsolve.co.uk/site/tech/hib-tip-pitfall</a:t>
            </a: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hp</a:t>
            </a: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?</a:t>
            </a: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name</a:t>
            </a: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=</a:t>
            </a: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why-laz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ssociações – Fetch M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Obtém um usuário e já carrega suas permissões em 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único SEL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er user = (User) session.createCriteria(User.class)                .setFetchMode("permissions", FetchMode.JOIN)                .add( Restrictions.idEq(userId) )                .uniqueResul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rojeções e Aggregate Fun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class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org.hibernate.criterion.Projections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 um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acto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para instâncias d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ojection instance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lique uma projeção em um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quer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ravés do métod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etProjection(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 class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rojeções e Aggregate Fun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owCount(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vg(String propertyNa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verage of a property's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unt(String propertyNa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umber of times a property has a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untDistinct(String propertyNa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umber of unique values the property conta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x(String propertyNa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in(String propertyNa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um(String propertyNa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um of the property val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// Retorna uma lista com um array de Obj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// como primeiro elemento. O array de Object conté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// todos os valores em or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riteria crit = sess.createCriteria(Product.class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ojectionList projectList = Projections.projectionList(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ojectList.add(Projections.avg(“price”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ojectList.add(Projections.sum(“price”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rit.setProjection( projectList 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List results = crit.list(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Query by Example (QBE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vê um outro “estilo” de bus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mo realizar uma Q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cialmente popule uma instância de um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ixe o Hibernate construi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Criteri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tilizando a instância como exemp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classe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org.hibernate.criterion.Exampl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implementa a interface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pode usá-la como qualquer outra restr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i="1" lang="pl-PL" sz="3000" spc="-1" strike="noStrike">
                <a:solidFill>
                  <a:srgbClr val="000000"/>
                </a:solidFill>
                <a:latin typeface="Verdana"/>
              </a:rPr>
              <a:t>Example.create()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criar uma restri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Query by Example (QBE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//</a:t>
            </a:r>
            <a:r>
              <a:rPr b="0" lang="pl-PL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Recupera objetos do tipo Pessoa através de um exemp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riteria crit = sess.createCriteria(Person.clas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erson person = new Pers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erson.setName(“Shi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Example exampleRestriction = Example.create(pers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rit.add(exampleRestricti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ist results = crit.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Fácil de usar, poderosa e elega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Especialmente útil quando é necessário utilizar </a:t>
            </a:r>
            <a:r>
              <a:rPr b="0" i="1" lang="pt-BR" sz="2500" spc="-1" strike="noStrike">
                <a:solidFill>
                  <a:srgbClr val="000000"/>
                </a:solidFill>
                <a:latin typeface="Verdana"/>
              </a:rPr>
              <a:t>Dynamic Query Gen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or outro lado, queries estáticas externas possuem algumas vantage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ries externalizadas podem ser auditadas e otimizadas (se necessário) pelo D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amed queries em arquivos de mapeamento concentram as queries em apenas um lu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amed queries são fáceis de guardar em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cach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se necessá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ibernate Query AP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riteria Query A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eira mais simples de obter 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Queries são feitas programaticamente através de uma API Ja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Hibernate Query Langu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ntaxe e funcionalidades bastante parecidas com JPQ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QL Na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omo utilizar a Criteria AP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Crie um objeto </a:t>
            </a:r>
            <a:r>
              <a:rPr b="0" i="1" lang="pl-PL" sz="3000" spc="-1" strike="noStrike">
                <a:solidFill>
                  <a:srgbClr val="000000"/>
                </a:solidFill>
                <a:latin typeface="Verdana"/>
              </a:rPr>
              <a:t>org.hibernate.Criteria 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através do </a:t>
            </a:r>
            <a:r>
              <a:rPr b="0" i="1" lang="pl-PL" sz="3000" spc="-1" strike="noStrike">
                <a:solidFill>
                  <a:srgbClr val="000000"/>
                </a:solidFill>
                <a:latin typeface="Verdana"/>
              </a:rPr>
              <a:t>factory method 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createCriteria(...) da </a:t>
            </a:r>
            <a:r>
              <a:rPr b="0" i="1" lang="pl-PL" sz="3000" spc="-1" strike="noStrike">
                <a:solidFill>
                  <a:srgbClr val="000000"/>
                </a:solidFill>
                <a:latin typeface="Verdana"/>
              </a:rPr>
              <a:t>Se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asse a classe do objeto persistente ou o nome da entidade para o método </a:t>
            </a:r>
            <a:r>
              <a:rPr b="0" i="1" lang="pl-PL" sz="2600" spc="-1" strike="noStrike">
                <a:solidFill>
                  <a:srgbClr val="000000"/>
                </a:solidFill>
                <a:latin typeface="Verdana"/>
              </a:rPr>
              <a:t>createCriteria(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Chame o método </a:t>
            </a:r>
            <a:r>
              <a:rPr b="0" i="1" lang="pl-PL" sz="2600" spc="-1" strike="noStrike">
                <a:solidFill>
                  <a:srgbClr val="000000"/>
                </a:solidFill>
                <a:latin typeface="Verdana"/>
              </a:rPr>
              <a:t>list()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do objeto </a:t>
            </a:r>
            <a:r>
              <a:rPr b="0" i="1" lang="pl-PL" sz="2600" spc="-1" strike="noStrike">
                <a:solidFill>
                  <a:srgbClr val="000000"/>
                </a:solidFill>
                <a:latin typeface="Verdana"/>
              </a:rPr>
              <a:t>Crite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// Get all instances of Person class and its subcl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teria crit = sess.createCriteria(Person.clas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results = crit.lis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agin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Hibernate cuida da pagin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Retornar um número fixo d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Dois métodos da classe Crite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tFirstResult() - seta a primeira linha do result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tMaxResult() - seta a quantidade de linhas a retorn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riteria crit = sess.createCriteria(Person.clas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rit.setFirstResult(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rit.setMaxResults(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List results = crit.lis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stri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tilizada para obter objetos que satisfaçam determinadas condiç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o: Objetos do tipo Pessoa cuja idade seja maior do que 20 an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icione restrições para o objet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riter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 o método add(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método add() recebe um obje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rg.hibernate.criterion.Criter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que representa uma única restri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em existir vári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striction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 uma Crite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método add() devolve o próprio objeto Criteria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ain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étodos da classe Restri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eq(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name”, ”Shin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ne(“name”, ”NoName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like(“name”, “Sa%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ilike(“name”, “sa%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isNull(“name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gt(“price”,new Double(30.0)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between(“age”, new Integer(2), new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Integer(10)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or(criterion1, criterion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trictions.conjuntion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Restrictions.disjunction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Exemplo de Restri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/ Resgata objetos do tipo Pesso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/ cujo nome segue um padrão e cu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/ idade é 10 ou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nul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 people = sess.createCriteria(Person.cla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add(Restrictions.like("name", "Shin%"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add(Restrictions.o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rictions.eq("age", new Integer(10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rictions.isNull("age")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Ordenando 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É possível ordenar resultados utilizando </a:t>
            </a:r>
            <a:r>
              <a:rPr b="0" i="1" lang="pt-BR" sz="3000" spc="-1" strike="noStrike">
                <a:solidFill>
                  <a:srgbClr val="000000"/>
                </a:solidFill>
                <a:latin typeface="Verdana"/>
              </a:rPr>
              <a:t>org.hibernate.criterion.Or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ist cats = sess.createCriteria(Cat.cla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add( Restrictions.like("name", "F%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addOrder( Order.asc("name")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addOrder( Order.desc("age")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setMaxResults(5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ssoci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É possível especificar </a:t>
            </a:r>
            <a:r>
              <a:rPr b="0" i="1" lang="pt-BR" sz="3000" spc="-1" strike="noStrike">
                <a:solidFill>
                  <a:srgbClr val="000000"/>
                </a:solidFill>
                <a:latin typeface="Verdana"/>
              </a:rPr>
              <a:t>constraints 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m entidades relacionadas utilizando </a:t>
            </a:r>
            <a:r>
              <a:rPr b="0" i="1" lang="pt-BR" sz="3000" spc="-1" strike="noStrike">
                <a:solidFill>
                  <a:srgbClr val="000000"/>
                </a:solidFill>
                <a:latin typeface="Verdana"/>
              </a:rPr>
              <a:t>createCriteria(..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ist cats = sess.createCriteria(Cat.class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add(Restrictions.like("name", "F%")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reateCriteria("kittens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(Restrictions.like("name", "F%"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lis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3:21:34Z</dcterms:created>
  <dc:creator>MaNiAc!</dc:creator>
  <dc:description/>
  <dc:language>en-US</dc:language>
  <cp:lastModifiedBy>goliva</cp:lastModifiedBy>
  <dcterms:modified xsi:type="dcterms:W3CDTF">2009-04-14T09:12:56Z</dcterms:modified>
  <cp:revision>5</cp:revision>
  <dc:subject/>
  <dc:title>Slajd 1</dc:title>
</cp:coreProperties>
</file>