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.wmf" ContentType="image/x-wmf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9F4-6DF2-4C54-8E4E-9EBA41D8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C6-BF21-45E8-A14D-EA74EBE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D24-1DD0-4628-A119-0C54F99A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26B-CC48-4A65-94DA-EB778D43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F2F-660B-45C4-9FAE-5B2ABC0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5E2-1620-4F85-A3FC-6A41F4A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65C-D4E1-41D2-B2E3-2F9381A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60C-F209-4F7D-9B64-1A4A25A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020-9185-409A-96B6-B4D8C4E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FBA-6AC5-4BAE-82DE-D7FB964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880-5231-43D0-B5D7-6D1B5C2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9EB-D45A-4650-BDDE-A62220A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E178-1095-4516-AE69-DC04A8D1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hyperlink" Target="http://www.hibernate.org/6.html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image" Target="../media/image2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bernate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hiago.prodepa@gmail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ersistência de dados com Java Persistence API - Hibern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ago Fernandes So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ago.prodepa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ando a J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rquivos *.jar devem ser referenciados no Build Path da apl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a IDE eclipse fica fá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 &gt; Propriedades &gt; Java Build Path &gt; Libraries &gt; add JAR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tecas necessá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m-at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3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mon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mons-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4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h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x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dbc2_0-std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4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tecas necessá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ais import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bernat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jb3-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bernate-anno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bernate-entity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ora deixand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 que uma entidade seja persisten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te a classe (POJO) com @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32000" y="2881440"/>
            <a:ext cx="65530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 que uma propriedade seja persist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nome da propriedade corresponde ao nome de campo que a representa na tabela? Então não anote, ela será persistida automa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5975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quer que uma propriedade seja persist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te a propriedade com @trans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6119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opriedade não tem o mesmo nome da coluna no ban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te a propriedade com @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626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 que a propriedade seja o identificador do obje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e a propriedade com @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6337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mento objeto-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co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+ JDBC 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é necessári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38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 definir a estratégia de geração de 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ta utilizar a anotação @GeneratedValue e definir a estraté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6697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estratégias ? Mais adiante vere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a entidade? Tem o mesmo nome da tabela em que será armazen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ão, defina a tabela com a anotação @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7274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otações para propriedades do tipo de dado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@Transciente: Não será persistida n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@Basic: define tipo numéricos, booleanos, String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@Temporal: define datas e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@Lob: define textos ou binários gran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ault : @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130120"/>
            <a:ext cx="7918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ntidade possui uma propriedade composta cujo tipo é uma outra entidade?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 a anotação @OneToOne em uma propriedade do tipo correspond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67690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332000" y="4797360"/>
            <a:ext cx="676908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ndo o OneTo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68360" y="3860640"/>
          <a:ext cx="5040360" cy="11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860640"/>
                    <a:ext cx="50403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3280" y="2565360"/>
            <a:ext cx="676908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03280" y="5445000"/>
            <a:ext cx="6769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rot="811800">
            <a:off x="4642920" y="2997000"/>
            <a:ext cx="457200" cy="299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19671000">
            <a:off x="3851280" y="4508640"/>
            <a:ext cx="45720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entidade faz parte de uma coleção de entidades de outras entid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e a anotação @ManyToOne para uma propriedade que representará a entidade dona da cole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720072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ntidade possui uma coleção de outras ent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 a anotação @OneToMany para uma propriedade que representará a cole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7175520" cy="10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idire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-para-m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720072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32000" y="2924280"/>
            <a:ext cx="7175520" cy="10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quê serve M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o de uma solução de mapeamento objeto-relacional pode solucionar problemas do tip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devem ser as classes persistentes e os meta-d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mapear hierarquias e rela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se relacionam a identidade de um objeto e a sua representação persistente no banco de dado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as fases do ciclo de vida de um objeto e como lidar com cada uma del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ecuperar os dados de associações de forma eficien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gerenciar os recursos necessários: transações, cache, concorrênci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as entidades possuem coleções umas das out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ambas entidades terão propriedades de coleção com a anotação 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6840720" cy="14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684072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PA Annotations – Relacion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7139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ndo o ManyTo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3409920"/>
          <a:ext cx="6842160" cy="16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409920"/>
                    <a:ext cx="68421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258920" y="1916280"/>
            <a:ext cx="6840360" cy="14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58920" y="5157720"/>
            <a:ext cx="684036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Configu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Configu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possibilidades dife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bernate.cfg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isten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bernate.prope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Configu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ição das unidades de persist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edor de persis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leto usado para mani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iver usado para acessar o banc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ário do banc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 do banc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rl do banco de d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s entidades que farão parte do con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s outras configuração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guração do pool de conex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sobre as ações do hibernate sobre o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c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Configu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ais interess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vários contextos diferentes de acordo com as necessidades e identificá-los pelo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900000" y="1197000"/>
          <a:ext cx="748836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197000"/>
                    <a:ext cx="74883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PA Annotations – Configu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924360" y="1628640"/>
            <a:ext cx="871560" cy="27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08720" y="184464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788000" y="263700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84360" y="357192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84360" y="386064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684360" y="407664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684360" y="436392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684360" y="457992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611280" y="4795920"/>
            <a:ext cx="8856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ãos a o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258920" y="2060640"/>
          <a:ext cx="6265800" cy="42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060640"/>
                    <a:ext cx="626580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219640" y="4508640"/>
            <a:ext cx="885960" cy="36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148360" y="2781360"/>
            <a:ext cx="88560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148360" y="3068640"/>
            <a:ext cx="8856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dicionando os arquivos *.jar da implementação 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quê usar M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a padronização da persistência.....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imina “90%” do código SQL da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z o custo de tratamento de transações, erros, entre ou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 linhas de código == melhor manute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rástica do impacto de mudanças na base de d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ursos da solução de MOR (cache, lazy) podem melhorar o desempenho das bus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bra tempo para a equipe trabalhar em otimizações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332000" y="3141720"/>
          <a:ext cx="66960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141720"/>
                    <a:ext cx="6696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dicionando os j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er o donwload (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hibernate.org/6.htm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ompactar os arqu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piar os arquivos *.jar para a a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a ao Buil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35280" y="5229360"/>
            <a:ext cx="8859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dicionando os j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dicionar ao build path: projeto &gt; propriedades &gt; libraries &gt; add JAR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56000" y="2708280"/>
          <a:ext cx="4038480" cy="35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2708280"/>
                    <a:ext cx="403848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as propr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os objetos - Ra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eando a Entidade Ra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30200" y="2060640"/>
          <a:ext cx="7197840" cy="399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0200" y="2060640"/>
                    <a:ext cx="71978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330200" y="2060640"/>
          <a:ext cx="7197840" cy="403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0200" y="2060640"/>
                    <a:ext cx="71978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332000" y="2060640"/>
          <a:ext cx="7197480" cy="380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2060640"/>
                    <a:ext cx="71974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os objetos - Ra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eando o identificador da ent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19280" y="2781360"/>
          <a:ext cx="654984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781360"/>
                    <a:ext cx="6549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19280" y="2781360"/>
          <a:ext cx="6549840" cy="17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2781360"/>
                    <a:ext cx="6549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476360" y="2637000"/>
          <a:ext cx="6767640" cy="273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2637000"/>
                    <a:ext cx="67676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os objetos - Ra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06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eando a propriedade da ent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58920" y="4437000"/>
          <a:ext cx="6624720" cy="9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4437000"/>
                    <a:ext cx="66247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332000" y="2637000"/>
          <a:ext cx="6983280" cy="72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2637000"/>
                    <a:ext cx="69832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403280" y="3645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os objetos - Pess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32000" y="1773360"/>
          <a:ext cx="727236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773360"/>
                    <a:ext cx="7272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ndo os objetos -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03280" y="1757520"/>
          <a:ext cx="7283520" cy="39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757520"/>
                    <a:ext cx="728352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peando os objetos -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erança Pessoa-Usu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332000" y="2276640"/>
          <a:ext cx="6769080" cy="122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276640"/>
                    <a:ext cx="676908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9640" y="364500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idade Usu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403280" y="4365720"/>
          <a:ext cx="5689800" cy="111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4365720"/>
                    <a:ext cx="56898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eando os relacion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mento objeto-relacional com Java Persistente API - J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as coleçõ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a pessoa para muitos ra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58920" y="2492280"/>
          <a:ext cx="727236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492280"/>
                    <a:ext cx="7272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39640" y="3500280"/>
            <a:ext cx="8229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dade Ra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58920" y="4365720"/>
          <a:ext cx="633744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4365720"/>
                    <a:ext cx="63374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as coleçõ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a pessoa para muitos ra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brando do b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669780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5003640" y="2852640"/>
          <a:ext cx="316872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852640"/>
                    <a:ext cx="3168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 rot="18900000">
            <a:off x="4284720" y="3428640"/>
            <a:ext cx="8856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as coleçõ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itas pessoa para muitos ra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64500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dade Ra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58920" y="1989000"/>
          <a:ext cx="712944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989000"/>
                    <a:ext cx="71294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403280" y="4221000"/>
          <a:ext cx="684072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4221000"/>
                    <a:ext cx="68407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187280" y="2276640"/>
          <a:ext cx="7490160" cy="20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276640"/>
                    <a:ext cx="74901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as coleçõ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itas pessoa para muitos ra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brando d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rot="18900000">
            <a:off x="5219280" y="2924280"/>
            <a:ext cx="112392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 rot="2400000">
            <a:off x="2916360" y="4005000"/>
            <a:ext cx="4572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as coleçõ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itas pessoa para muitos ra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posição das ch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2492280"/>
          <a:ext cx="813744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92280"/>
                    <a:ext cx="8137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rot="1800000">
            <a:off x="4859280" y="50842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 rot="1840800">
            <a:off x="5364000" y="3284280"/>
            <a:ext cx="457200" cy="676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211640" y="25002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idade  que se está mape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seando os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ndendo o ciclo de vida dos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00000" y="1996920"/>
          <a:ext cx="6769080" cy="445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996920"/>
                    <a:ext cx="6769080" cy="44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dos do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trans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tidos através 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“new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simples do Java, ainda não passados para o hiber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podem ter associações com objetos persistentes(persistência tran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possuem representação no b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possuem ident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dos do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pers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representação no banco de dados, inclusive id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recuperados do banco pelo Hibernate diretamente ou por transitiv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ão sempre associados a um objet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ssio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EntityManag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dos do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destacados (Deta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que foram persistentes ou transientes mas que não estão mais associados a um contexto persist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echa, os objetos ainda “abertos” tornam-se destac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há garantias de que esses objetos serão sincron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s podem ser re-associados através do meto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ave(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pdate(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ave-updat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é J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JPA é uma especificações da linguagem Java para a persistência de d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a na camada de persistência de d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ser utilizada dentro ou fora de contai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 o mapeamento objeto-relacional com base em anot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dos do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persistentes = Objetos trans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bjeto associados a uma session participa de uma transação e seu estado é atualizados ao final desta(Ou em sincroniza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-update = tr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Hibernate atualiza somente as propriedades alteradas,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tualiza todo objeto, mas somente os que foram alte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são gerenciados dinamicamente pel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Hibernate. Isso quer dizer, que objetos persistentes s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pelh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banco de dados mantido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lo Hibernate. E não uma ligação direta com 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gerenciador de objeto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ntity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le prov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CRUD básic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ção de consult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e de transaçõ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 de cach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ora sim! Podemos mexer nos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332000" y="2133720"/>
          <a:ext cx="7056360" cy="43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133720"/>
                    <a:ext cx="705636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ndo o contexto per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2133720"/>
          <a:ext cx="7129440" cy="36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133720"/>
                    <a:ext cx="71294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332000" y="2133720"/>
          <a:ext cx="7129440" cy="40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2133720"/>
                    <a:ext cx="71294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 rot="18900000">
            <a:off x="7596000" y="2781000"/>
            <a:ext cx="765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32000" y="2205000"/>
          <a:ext cx="6837120" cy="40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205000"/>
                    <a:ext cx="68371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2276640"/>
          <a:ext cx="6624720" cy="39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2276640"/>
                    <a:ext cx="662472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indo uma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ndo uma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03280" y="2997360"/>
          <a:ext cx="7345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997360"/>
                    <a:ext cx="7345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332000" y="2997360"/>
          <a:ext cx="7416720" cy="22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2997360"/>
                    <a:ext cx="74167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 rot="18900000">
            <a:off x="3850920" y="3428640"/>
            <a:ext cx="765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indo uma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58920" y="2349360"/>
          <a:ext cx="7058160" cy="35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349360"/>
                    <a:ext cx="705816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258920" y="2565360"/>
          <a:ext cx="6985080" cy="266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2565360"/>
                    <a:ext cx="6985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332000" y="2349360"/>
          <a:ext cx="7272360" cy="295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2349360"/>
                    <a:ext cx="72723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perando uma lista de Pesso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403280" y="2708280"/>
          <a:ext cx="684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708280"/>
                    <a:ext cx="68407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755640" y="2781360"/>
          <a:ext cx="741672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781360"/>
                    <a:ext cx="7416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perando uma lista de Pessoas ordenada por nome e que possuem uma d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n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932360" y="4221000"/>
            <a:ext cx="836640" cy="339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 rot="1840200">
            <a:off x="6084720" y="3141720"/>
            <a:ext cx="339840" cy="836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508720" y="4005360"/>
            <a:ext cx="863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m algumas implement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lass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os implementam a solução ORM de acordo com a especificação J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êm o formato de arquivos *.jar que adicionados ao classPath da aplicação tornam-se disponív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truindo a classe Pessoa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perando uma pessoa pelo seu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16000" y="2637000"/>
          <a:ext cx="72723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637000"/>
                    <a:ext cx="7272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stando os D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 direto com método mai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03280" y="2421000"/>
          <a:ext cx="6481800" cy="28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421000"/>
                    <a:ext cx="6481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stando os D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indo uma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2924280"/>
          <a:ext cx="475164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2924280"/>
                    <a:ext cx="4751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stando os D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ando as pesso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403280" y="2205000"/>
          <a:ext cx="7056360" cy="38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205000"/>
                    <a:ext cx="7056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stando os D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tando os ramais de uma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32000" y="2637000"/>
          <a:ext cx="6912000" cy="37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637000"/>
                    <a:ext cx="69120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PA - H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da lingu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 orientada a obje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ção no grafo dos obje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as polimórf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recuperar somente algumas propriedades dos objetos ao invés do to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i recursos de ordenação e paginação dos resul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i funções de agragação, group-by, order-b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ta joins e subquer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ta chamada a funções nativas e strore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tratégias de geração de 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uto: Usa uma coluna, seqüência ou tabela de ids dependendo do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ble: Usa uma tabela para recuperar as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ty: Usa uma coluna de identif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uence: Usa uma sequência única para determinar as id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s de H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r todas as 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om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r pessoas com crité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om Pessoa p Where p.nome = “Maradon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om Pessoa p Where p.nome Like “Maradona%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ndo pessoas com critérios na classes asso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om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PA – estratégias de recuperação de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imediata (immediate): Selects seqüenci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preguiçosa ( Lazy): Sob deman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adiantada (eager): uso de outer jo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em lotes ( Batch): Vários de uma vez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mplementação 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conhecida, mais tra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dereço para Down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ibernat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rquivos necessá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agina de down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16000" y="4363920"/>
            <a:ext cx="698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ago fernandes So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ago.prodepa@gmail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ando a J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s para a uti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wnload e insta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ção das classes persiste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ção das tabelas no SGB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do M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iguração da JP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r a API de manipulação dos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8:30:52Z</dcterms:created>
  <dc:creator>Thiago Fernandes Soares</dc:creator>
  <dc:description/>
  <dc:language>en-US</dc:language>
  <cp:lastModifiedBy>Thiago Fernandes Soares</cp:lastModifiedBy>
  <dcterms:modified xsi:type="dcterms:W3CDTF">2007-08-20T17:43:35Z</dcterms:modified>
  <cp:revision>48</cp:revision>
  <dc:subject/>
  <dc:title>Persistência de dados com Java Persistence API - Hibernate</dc:title>
</cp:coreProperties>
</file>