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5.jpeg" ContentType="image/jpeg"/>
  <Override PartName="/ppt/media/image27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3.wmf" ContentType="image/x-wmf"/>
  <Override PartName="/ppt/media/image15.jpeg" ContentType="image/jpeg"/>
  <Override PartName="/ppt/media/image13.jpeg" ContentType="image/jpeg"/>
  <Override PartName="/ppt/media/image6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31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6ED13EA-417D-429C-A9AA-868C014143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349EBBA-199B-4CE4-BE68-1ECF347E40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71520" y="73332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9560" y="4559040"/>
            <a:ext cx="535608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F0463F9-7FAF-484F-B78D-52E2B6D722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79560" y="4559040"/>
            <a:ext cx="535608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3280BC0-F857-4267-A341-BE14010AF1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9D8A455-76CC-4329-A32B-4AF18B7EF1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830160" y="4598640"/>
            <a:ext cx="540864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996840" y="642960"/>
            <a:ext cx="5097600" cy="3822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7C75D5C-7A13-41E7-8DDB-D91CA85E58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830160" y="4598640"/>
            <a:ext cx="540864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996840" y="642960"/>
            <a:ext cx="5097600" cy="3822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FA8FA03-9E0A-4986-AC33-64180A565C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41280" y="746280"/>
            <a:ext cx="4837320" cy="3627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76320" y="4587480"/>
            <a:ext cx="53625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D766DE5-01F4-4BDB-A9E0-7141F614B2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830160" y="4598640"/>
            <a:ext cx="540864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ldImg"/>
          </p:nvPr>
        </p:nvSpPr>
        <p:spPr>
          <a:xfrm>
            <a:off x="996840" y="642960"/>
            <a:ext cx="5097600" cy="3822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4C43117-160E-482A-BB8A-ED1BB29A1B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F3640D0-5E88-46CF-A2DC-61EF0EC50E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831600" y="4598640"/>
            <a:ext cx="540684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ldImg"/>
          </p:nvPr>
        </p:nvSpPr>
        <p:spPr>
          <a:xfrm>
            <a:off x="996840" y="644400"/>
            <a:ext cx="5096160" cy="3821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01C0E03-889A-46DA-AA77-A2BC18DD53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707F033-33CB-4EA0-A5D9-E1B899CF2D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E852A92-F572-45B9-8787-DACB94CACA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06FB211-245D-4748-815D-2754DD4E62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6301F67-E641-45F9-9C82-A60AAFF914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41280" y="746280"/>
            <a:ext cx="4837320" cy="36273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76320" y="4587480"/>
            <a:ext cx="5362560" cy="4267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w sli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74C5546-1EA0-4811-B59C-ECDFD4CAEB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1357200" y="4627440"/>
            <a:ext cx="440208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ldImg"/>
          </p:nvPr>
        </p:nvSpPr>
        <p:spPr>
          <a:xfrm>
            <a:off x="1386000" y="1239840"/>
            <a:ext cx="4362480" cy="3271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AF87097-38FC-444C-A67C-A870E495BE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C1E1E33-36C7-4B4A-B28F-2E9E80BFED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1353600" y="4627440"/>
            <a:ext cx="440388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ldImg"/>
          </p:nvPr>
        </p:nvSpPr>
        <p:spPr>
          <a:xfrm>
            <a:off x="1386000" y="1239840"/>
            <a:ext cx="4362480" cy="3271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E32C7BE-DCC5-4533-A01C-B114F27208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1353600" y="4627440"/>
            <a:ext cx="440388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ldImg"/>
          </p:nvPr>
        </p:nvSpPr>
        <p:spPr>
          <a:xfrm>
            <a:off x="1386000" y="1239840"/>
            <a:ext cx="4362480" cy="32716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388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232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388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232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93560" y="304560"/>
            <a:ext cx="743904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388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78232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44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388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78232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3560" y="304560"/>
            <a:ext cx="743904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4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225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33360" cy="68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8920" indent="-23004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1640" indent="-22860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1640" indent="-22860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1640" indent="-22860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1722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620120" y="6226200"/>
            <a:ext cx="947520" cy="1191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152280" y="6553080"/>
            <a:ext cx="88394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i JPA Tools Project  |  © 2007 Oracle; made available under the EPL v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7932600" y="0"/>
            <a:ext cx="1211400" cy="79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2895480" cy="36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914400"/>
            <a:ext cx="2819520" cy="281952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Insert Picture Her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914400"/>
            <a:ext cx="914400" cy="2822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736800" y="914400"/>
            <a:ext cx="5407200" cy="2822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48006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887640" y="3971880"/>
            <a:ext cx="1646280" cy="1085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901800" y="914400"/>
            <a:ext cx="28288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152280" y="6553080"/>
            <a:ext cx="88394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i JPA Tools Project  |  © 2007 Oracle; made available under the EPL v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222480" algn="ctr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0480" indent="338400" algn="ctr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9080" indent="453960" algn="ctr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9080" indent="453960"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9080" indent="453960"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4800240"/>
            <a:ext cx="777240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i Java Persistence API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8080" y="5295600"/>
            <a:ext cx="6400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il Hau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il.hauge@oracl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L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o you need JPA Tool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92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PA runtime combi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5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5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Meta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5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48160" y="3986280"/>
            <a:ext cx="187200" cy="59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35520" y="3986280"/>
            <a:ext cx="187200" cy="59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25960" y="3986280"/>
            <a:ext cx="187560" cy="59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48160" y="3986280"/>
            <a:ext cx="765360" cy="10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48160" y="4278240"/>
            <a:ext cx="765360" cy="10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48160" y="4481640"/>
            <a:ext cx="765360" cy="10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0"/>
            <a:endCxn id="126" idx="2"/>
          </p:cNvCxnSpPr>
          <p:nvPr/>
        </p:nvCxnSpPr>
        <p:spPr>
          <a:xfrm flipV="1">
            <a:off x="4901760" y="1907640"/>
            <a:ext cx="33084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28" idx="0"/>
            <a:endCxn id="126" idx="2"/>
          </p:cNvCxnSpPr>
          <p:nvPr/>
        </p:nvCxnSpPr>
        <p:spPr>
          <a:xfrm flipH="1" flipV="1">
            <a:off x="5231520" y="1907640"/>
            <a:ext cx="359640" cy="161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5099040" y="1763640"/>
            <a:ext cx="2649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68920" y="2060640"/>
            <a:ext cx="2649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57960" y="2068560"/>
            <a:ext cx="2649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8280" y="3087000"/>
            <a:ext cx="1480320" cy="28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Met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29040" y="4270680"/>
            <a:ext cx="1153080" cy="8481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ion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16840" y="2211480"/>
            <a:ext cx="1881000" cy="63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 SE/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18280" y="2847960"/>
            <a:ext cx="1881360" cy="6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PA Persist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81760" y="3462480"/>
            <a:ext cx="679680" cy="815760"/>
          </a:xfrm>
          <a:prstGeom prst="upDownArrow">
            <a:avLst>
              <a:gd name="adj1" fmla="val 50000"/>
              <a:gd name="adj2" fmla="val 23893"/>
            </a:avLst>
          </a:prstGeom>
          <a:solidFill>
            <a:srgbClr val="fd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5040" y="2219400"/>
            <a:ext cx="109332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va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70480" y="4691160"/>
            <a:ext cx="16905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 Sch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48160" y="4087800"/>
            <a:ext cx="765360" cy="10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11800" y="4100400"/>
            <a:ext cx="187200" cy="59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99160" y="4100400"/>
            <a:ext cx="187200" cy="59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89600" y="4100400"/>
            <a:ext cx="187200" cy="59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11800" y="4100400"/>
            <a:ext cx="765000" cy="1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11800" y="4392720"/>
            <a:ext cx="765000" cy="10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11800" y="4595760"/>
            <a:ext cx="765000" cy="10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11800" y="4202280"/>
            <a:ext cx="765000" cy="10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9920" y="5303880"/>
            <a:ext cx="13888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36960" y="5303880"/>
            <a:ext cx="994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226200" y="2999520"/>
            <a:ext cx="782640" cy="419400"/>
          </a:xfrm>
          <a:custGeom>
            <a:avLst/>
            <a:gdLst>
              <a:gd name="textAreaLeft" fmla="*/ 122040 w 782640"/>
              <a:gd name="textAreaRight" fmla="*/ 685080 w 782640"/>
              <a:gd name="textAreaTop" fmla="*/ 104760 h 419400"/>
              <a:gd name="textAreaBottom" fmla="*/ 314640 h 419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d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52880" y="3879720"/>
            <a:ext cx="2387520" cy="1068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52880" y="1514520"/>
            <a:ext cx="2387520" cy="109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8" idx="2"/>
            <a:endCxn id="129" idx="0"/>
          </p:cNvCxnSpPr>
          <p:nvPr/>
        </p:nvCxnSpPr>
        <p:spPr>
          <a:xfrm flipH="1" rot="16200000">
            <a:off x="5009760" y="2848320"/>
            <a:ext cx="4741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0" name=""/>
          <p:cNvCxnSpPr>
            <a:stCxn id="147" idx="0"/>
            <a:endCxn id="129" idx="2"/>
          </p:cNvCxnSpPr>
          <p:nvPr/>
        </p:nvCxnSpPr>
        <p:spPr>
          <a:xfrm flipV="1">
            <a:off x="5246280" y="3371040"/>
            <a:ext cx="2520" cy="50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o you need JPA Tool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92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you tell if they all mat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5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 and run tes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476"/>
              </a:spcBef>
              <a:buClr>
                <a:srgbClr val="fd0000"/>
              </a:buClr>
              <a:buSzPct val="85000"/>
              <a:buFont typeface="Wingdings" charset="2"/>
              <a:buChar char="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476"/>
              </a:spcBef>
              <a:buClr>
                <a:srgbClr val="fd0000"/>
              </a:buClr>
              <a:buSzPct val="85000"/>
              <a:buFont typeface="Wingdings" charset="2"/>
              <a:buChar char="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d one problem at a time (fix, run, fix, …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476"/>
              </a:spcBef>
              <a:buClr>
                <a:srgbClr val="fd0000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finitiv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5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time valid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476"/>
              </a:spcBef>
              <a:buClr>
                <a:srgbClr val="fd0000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ic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476"/>
              </a:spcBef>
              <a:buClr>
                <a:srgbClr val="fd0000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ds all iss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476"/>
              </a:spcBef>
              <a:buClr>
                <a:srgbClr val="fd0000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alidates against spe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476"/>
              </a:spcBef>
              <a:buClr>
                <a:srgbClr val="fd0000"/>
              </a:buClr>
              <a:buSzPct val="85000"/>
              <a:buFont typeface="Wingdings" charset="2"/>
              <a:buChar char="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untime may not match spe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48160" y="3986280"/>
            <a:ext cx="187200" cy="59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35520" y="3986280"/>
            <a:ext cx="187200" cy="59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25960" y="3986280"/>
            <a:ext cx="187560" cy="59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48160" y="3986280"/>
            <a:ext cx="765360" cy="10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48160" y="4278240"/>
            <a:ext cx="765360" cy="10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48160" y="4481640"/>
            <a:ext cx="765360" cy="10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60" idx="0"/>
            <a:endCxn id="161" idx="2"/>
          </p:cNvCxnSpPr>
          <p:nvPr/>
        </p:nvCxnSpPr>
        <p:spPr>
          <a:xfrm flipV="1">
            <a:off x="4901760" y="1907640"/>
            <a:ext cx="33084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63" idx="0"/>
            <a:endCxn id="161" idx="2"/>
          </p:cNvCxnSpPr>
          <p:nvPr/>
        </p:nvCxnSpPr>
        <p:spPr>
          <a:xfrm flipH="1" flipV="1">
            <a:off x="5231520" y="1907640"/>
            <a:ext cx="359640" cy="161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1" name=""/>
          <p:cNvSpPr/>
          <p:nvPr/>
        </p:nvSpPr>
        <p:spPr>
          <a:xfrm>
            <a:off x="5099040" y="1763640"/>
            <a:ext cx="2649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68920" y="2060640"/>
            <a:ext cx="2649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57960" y="2068560"/>
            <a:ext cx="2649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8280" y="3087000"/>
            <a:ext cx="1480320" cy="28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Met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29040" y="4270680"/>
            <a:ext cx="1153080" cy="8481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ion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16840" y="2211480"/>
            <a:ext cx="1881000" cy="63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 SE/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18280" y="2847960"/>
            <a:ext cx="1881360" cy="6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PA Persist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81760" y="3462480"/>
            <a:ext cx="679680" cy="815760"/>
          </a:xfrm>
          <a:prstGeom prst="upDownArrow">
            <a:avLst>
              <a:gd name="adj1" fmla="val 50000"/>
              <a:gd name="adj2" fmla="val 23893"/>
            </a:avLst>
          </a:prstGeom>
          <a:solidFill>
            <a:srgbClr val="fd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5040" y="2219400"/>
            <a:ext cx="109332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va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70480" y="4691160"/>
            <a:ext cx="16905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 Sch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48160" y="4087800"/>
            <a:ext cx="765360" cy="10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11800" y="4100400"/>
            <a:ext cx="187200" cy="59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99160" y="4100400"/>
            <a:ext cx="187200" cy="59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89600" y="4100400"/>
            <a:ext cx="187200" cy="59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11800" y="4100400"/>
            <a:ext cx="765000" cy="1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11800" y="4392720"/>
            <a:ext cx="765000" cy="10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11800" y="4595760"/>
            <a:ext cx="765000" cy="10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11800" y="4202280"/>
            <a:ext cx="765000" cy="10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9920" y="5303880"/>
            <a:ext cx="13888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36960" y="5303880"/>
            <a:ext cx="994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226200" y="2999520"/>
            <a:ext cx="782640" cy="419400"/>
          </a:xfrm>
          <a:custGeom>
            <a:avLst/>
            <a:gdLst>
              <a:gd name="textAreaLeft" fmla="*/ 122040 w 782640"/>
              <a:gd name="textAreaRight" fmla="*/ 685080 w 782640"/>
              <a:gd name="textAreaTop" fmla="*/ 104760 h 419400"/>
              <a:gd name="textAreaBottom" fmla="*/ 314640 h 419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d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52880" y="3879720"/>
            <a:ext cx="2387520" cy="1068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52880" y="1514520"/>
            <a:ext cx="2387520" cy="109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3" idx="2"/>
            <a:endCxn id="164" idx="0"/>
          </p:cNvCxnSpPr>
          <p:nvPr/>
        </p:nvCxnSpPr>
        <p:spPr>
          <a:xfrm flipH="1" rot="16200000">
            <a:off x="5009760" y="2848320"/>
            <a:ext cx="4741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5" name=""/>
          <p:cNvCxnSpPr>
            <a:stCxn id="182" idx="0"/>
            <a:endCxn id="164" idx="2"/>
          </p:cNvCxnSpPr>
          <p:nvPr/>
        </p:nvCxnSpPr>
        <p:spPr>
          <a:xfrm flipV="1">
            <a:off x="5246280" y="3371040"/>
            <a:ext cx="2520" cy="50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ut Dal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e definition, editing, and deployment of Object-Relational (O/R) mappings for JPA Entities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mapping definition and editing 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ligent mapping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problem identification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on and automated mapping wiz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 frameworks and tools so vendors and open source projects can provide specific support for their JPA run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project of the Web Tools Platform (W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li 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45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mapping assistance and automated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ui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45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existing and consistent modeling and tooling practices in Ec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45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-weight views offer assistance but don’t get in the way of pow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45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ny and all EJB 3.0 compliant runtime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45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using EJB 3.0 Referenc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45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the ability for vendors and open source projects to seamlessly add their own value-add feat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‘Dali’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PA supports “The Persistence of Memory”—which is the title of a well known Salvador Dali pai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ersistence-of-memory" descr=""/>
          <p:cNvPicPr/>
          <p:nvPr/>
        </p:nvPicPr>
        <p:blipFill>
          <a:blip r:embed="rId1"/>
          <a:stretch/>
        </p:blipFill>
        <p:spPr>
          <a:xfrm>
            <a:off x="2286000" y="2459160"/>
            <a:ext cx="4648320" cy="3351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09680" y="5826240"/>
            <a:ext cx="5264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vador Dalí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Persistence of Memo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1931. 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5 Salvador Dalí, Gala-Salvador Dalí Foundation/Artists Rights Society (ARS), New Yor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1708200"/>
            <a:ext cx="9144000" cy="3463920"/>
          </a:xfrm>
          <a:prstGeom prst="rect">
            <a:avLst/>
          </a:prstGeom>
          <a:solidFill>
            <a:srgbClr val="f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20360" y="3425760"/>
            <a:ext cx="583236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9160" indent="-119160">
              <a:spcBef>
                <a:spcPts val="45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don’t need Dali to build JPA applications—but you’re going to be way more productive if you d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909440"/>
            <a:ext cx="7772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ali Value Pro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7621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li Contributions to Eclip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PA Mapping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PA Structure and Details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Source Editor enh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20760" y="3108240"/>
            <a:ext cx="4667040" cy="30290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113520" y="1015920"/>
            <a:ext cx="1800000" cy="1905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121360" y="3108240"/>
            <a:ext cx="3881520" cy="2567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ing Valid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93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s and/or XML used to define JPA Ent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DT validates syntax, but doesn’t understand what the annotation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Snap3" descr=""/>
          <p:cNvPicPr/>
          <p:nvPr/>
        </p:nvPicPr>
        <p:blipFill>
          <a:blip r:embed="rId1"/>
          <a:stretch/>
        </p:blipFill>
        <p:spPr>
          <a:xfrm>
            <a:off x="4842000" y="1380960"/>
            <a:ext cx="4005000" cy="4629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Snap1" descr=""/>
          <p:cNvPicPr/>
          <p:nvPr/>
        </p:nvPicPr>
        <p:blipFill>
          <a:blip r:embed="rId1"/>
          <a:stretch/>
        </p:blipFill>
        <p:spPr>
          <a:xfrm>
            <a:off x="219240" y="2436840"/>
            <a:ext cx="5419440" cy="32018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257800" y="1620720"/>
            <a:ext cx="3552840" cy="9432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pping Valid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Source Editor enh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Problem Ma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1693800"/>
            <a:ext cx="3429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2035080"/>
            <a:ext cx="457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91320" y="2035080"/>
            <a:ext cx="838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0" y="2035080"/>
            <a:ext cx="838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772400" y="2031840"/>
            <a:ext cx="838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40040" y="6858000"/>
            <a:ext cx="556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03880" y="2050920"/>
            <a:ext cx="338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95920" y="2050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0120" y="2050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2579760"/>
            <a:ext cx="4876920" cy="1230120"/>
          </a:xfrm>
          <a:custGeom>
            <a:avLst/>
            <a:gdLst/>
            <a:ahLst/>
            <a:rect l="l" t="t" r="r" b="b"/>
            <a:pathLst>
              <a:path w="2131" h="691">
                <a:moveTo>
                  <a:pt x="0" y="691"/>
                </a:moveTo>
                <a:lnTo>
                  <a:pt x="2131" y="691"/>
                </a:lnTo>
                <a:lnTo>
                  <a:pt x="2131" y="0"/>
                </a:lnTo>
              </a:path>
            </a:pathLst>
          </a:custGeom>
          <a:noFill/>
          <a:ln w="25560">
            <a:solidFill>
              <a:srgbClr val="ff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33160" y="350532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mapping won’t wor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5257800"/>
            <a:ext cx="5334120" cy="457200"/>
          </a:xfrm>
          <a:prstGeom prst="ellipse">
            <a:avLst/>
          </a:prstGeom>
          <a:noFill/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05740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2590920"/>
            <a:ext cx="3094200" cy="571320"/>
          </a:xfrm>
          <a:custGeom>
            <a:avLst/>
            <a:gdLst/>
            <a:ahLst/>
            <a:rect l="l" t="t" r="r" b="b"/>
            <a:pathLst>
              <a:path w="2131" h="691">
                <a:moveTo>
                  <a:pt x="0" y="691"/>
                </a:moveTo>
                <a:lnTo>
                  <a:pt x="2131" y="691"/>
                </a:lnTo>
                <a:lnTo>
                  <a:pt x="213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2552760"/>
            <a:ext cx="2971800" cy="838080"/>
          </a:xfrm>
          <a:custGeom>
            <a:avLst/>
            <a:gdLst/>
            <a:ahLst/>
            <a:rect l="l" t="t" r="r" b="b"/>
            <a:pathLst>
              <a:path w="2131" h="691">
                <a:moveTo>
                  <a:pt x="0" y="691"/>
                </a:moveTo>
                <a:lnTo>
                  <a:pt x="2131" y="691"/>
                </a:lnTo>
                <a:lnTo>
                  <a:pt x="213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pping Assis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PA Details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89280" y="6858000"/>
            <a:ext cx="556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Snap1" descr=""/>
          <p:cNvPicPr/>
          <p:nvPr/>
        </p:nvPicPr>
        <p:blipFill>
          <a:blip r:embed="rId1"/>
          <a:stretch/>
        </p:blipFill>
        <p:spPr>
          <a:xfrm>
            <a:off x="219240" y="2436840"/>
            <a:ext cx="5419440" cy="3201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257800" y="1620720"/>
            <a:ext cx="3552840" cy="943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257800" y="1693800"/>
            <a:ext cx="3429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57800" y="2035080"/>
            <a:ext cx="457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91320" y="2035080"/>
            <a:ext cx="838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2035080"/>
            <a:ext cx="838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72400" y="2031840"/>
            <a:ext cx="838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03880" y="2050920"/>
            <a:ext cx="338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95920" y="2050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0120" y="2050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00400" y="2579760"/>
            <a:ext cx="4876920" cy="1230120"/>
          </a:xfrm>
          <a:custGeom>
            <a:avLst/>
            <a:gdLst/>
            <a:ahLst/>
            <a:rect l="l" t="t" r="r" b="b"/>
            <a:pathLst>
              <a:path w="2131" h="691">
                <a:moveTo>
                  <a:pt x="0" y="691"/>
                </a:moveTo>
                <a:lnTo>
                  <a:pt x="2131" y="691"/>
                </a:lnTo>
                <a:lnTo>
                  <a:pt x="2131" y="0"/>
                </a:lnTo>
              </a:path>
            </a:pathLst>
          </a:custGeom>
          <a:noFill/>
          <a:ln w="25560">
            <a:solidFill>
              <a:srgbClr val="ff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5257800"/>
            <a:ext cx="5334120" cy="457200"/>
          </a:xfrm>
          <a:prstGeom prst="ellipse">
            <a:avLst/>
          </a:prstGeom>
          <a:noFill/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205740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Snap5" descr=""/>
          <p:cNvPicPr/>
          <p:nvPr/>
        </p:nvPicPr>
        <p:blipFill>
          <a:blip r:embed="rId3"/>
          <a:stretch/>
        </p:blipFill>
        <p:spPr>
          <a:xfrm>
            <a:off x="5867280" y="3565440"/>
            <a:ext cx="3124440" cy="22258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438280" y="2590920"/>
            <a:ext cx="3094200" cy="571320"/>
          </a:xfrm>
          <a:custGeom>
            <a:avLst/>
            <a:gdLst/>
            <a:ahLst/>
            <a:rect l="l" t="t" r="r" b="b"/>
            <a:pathLst>
              <a:path w="2131" h="691">
                <a:moveTo>
                  <a:pt x="0" y="691"/>
                </a:moveTo>
                <a:lnTo>
                  <a:pt x="2131" y="691"/>
                </a:lnTo>
                <a:lnTo>
                  <a:pt x="213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00400" y="2552760"/>
            <a:ext cx="2971800" cy="838080"/>
          </a:xfrm>
          <a:custGeom>
            <a:avLst/>
            <a:gdLst/>
            <a:ahLst/>
            <a:rect l="l" t="t" r="r" b="b"/>
            <a:pathLst>
              <a:path w="2131" h="691">
                <a:moveTo>
                  <a:pt x="0" y="691"/>
                </a:moveTo>
                <a:lnTo>
                  <a:pt x="2131" y="691"/>
                </a:lnTo>
                <a:lnTo>
                  <a:pt x="213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ut Nei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Lead of Eclipse Dali JPA Tools Project and WTP PMC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Tools Lead for Oracle TopLink, Oracle's JPA implementation and the basis of the open sour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pLink Essent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PA Reference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six years experience developing Java Object-Relational Mapp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Snap8" descr=""/>
          <p:cNvPicPr/>
          <p:nvPr/>
        </p:nvPicPr>
        <p:blipFill>
          <a:blip r:embed="rId1"/>
          <a:stretch/>
        </p:blipFill>
        <p:spPr>
          <a:xfrm>
            <a:off x="228600" y="2432160"/>
            <a:ext cx="5638680" cy="30477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pping Assistance for Basic Mapp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89280" y="6858000"/>
            <a:ext cx="556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2579760"/>
            <a:ext cx="4800600" cy="1458720"/>
          </a:xfrm>
          <a:custGeom>
            <a:avLst/>
            <a:gdLst/>
            <a:ahLst/>
            <a:rect l="l" t="t" r="r" b="b"/>
            <a:pathLst>
              <a:path w="2131" h="691">
                <a:moveTo>
                  <a:pt x="0" y="691"/>
                </a:moveTo>
                <a:lnTo>
                  <a:pt x="2131" y="691"/>
                </a:lnTo>
                <a:lnTo>
                  <a:pt x="213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60840" y="36576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apping Erro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89280" y="6858000"/>
            <a:ext cx="556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257800" y="1620720"/>
            <a:ext cx="3552840" cy="943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257800" y="1693800"/>
            <a:ext cx="3429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2035080"/>
            <a:ext cx="457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2035080"/>
            <a:ext cx="838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035080"/>
            <a:ext cx="838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72400" y="2031840"/>
            <a:ext cx="838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03880" y="2050920"/>
            <a:ext cx="338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95920" y="2050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20120" y="2050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38280" y="2590920"/>
            <a:ext cx="3094200" cy="571320"/>
          </a:xfrm>
          <a:custGeom>
            <a:avLst/>
            <a:gdLst/>
            <a:ahLst/>
            <a:rect l="l" t="t" r="r" b="b"/>
            <a:pathLst>
              <a:path w="2131" h="691">
                <a:moveTo>
                  <a:pt x="0" y="691"/>
                </a:moveTo>
                <a:lnTo>
                  <a:pt x="2131" y="691"/>
                </a:lnTo>
                <a:lnTo>
                  <a:pt x="213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2552760"/>
            <a:ext cx="2971800" cy="838080"/>
          </a:xfrm>
          <a:custGeom>
            <a:avLst/>
            <a:gdLst/>
            <a:ahLst/>
            <a:rect l="l" t="t" r="r" b="b"/>
            <a:pathLst>
              <a:path w="2131" h="691">
                <a:moveTo>
                  <a:pt x="0" y="691"/>
                </a:moveTo>
                <a:lnTo>
                  <a:pt x="2131" y="691"/>
                </a:lnTo>
                <a:lnTo>
                  <a:pt x="213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5257800"/>
            <a:ext cx="5334120" cy="457200"/>
          </a:xfrm>
          <a:prstGeom prst="ellipse">
            <a:avLst/>
          </a:prstGeom>
          <a:noFill/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05720" y="205740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Snap6" descr=""/>
          <p:cNvPicPr/>
          <p:nvPr/>
        </p:nvPicPr>
        <p:blipFill>
          <a:blip r:embed="rId3"/>
          <a:stretch/>
        </p:blipFill>
        <p:spPr>
          <a:xfrm>
            <a:off x="5867280" y="3575160"/>
            <a:ext cx="312444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PA Structure 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93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JPA specific view of Java Class or ORM XML Mapping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humbnail sketch of how an Entity is ma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navigation between mapp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ally adjusts to either property or field mapping in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structure in Java and XML arti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1800360" cy="19051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372360" y="2771640"/>
            <a:ext cx="1800000" cy="317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PA Perspective—all your JPA Vie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6320" y="4448160"/>
            <a:ext cx="2009520" cy="1419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76320" y="1600200"/>
            <a:ext cx="2009520" cy="2619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2238480" y="1752480"/>
            <a:ext cx="4667040" cy="30290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7032600" y="1484280"/>
            <a:ext cx="1800360" cy="19051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7032600" y="3429000"/>
            <a:ext cx="2028960" cy="2457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chronizing Persistence.x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Java SE environment, persistence.xml must list the Entities—Dali offers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Snap11" descr=""/>
          <p:cNvPicPr/>
          <p:nvPr/>
        </p:nvPicPr>
        <p:blipFill>
          <a:blip r:embed="rId1"/>
          <a:stretch/>
        </p:blipFill>
        <p:spPr>
          <a:xfrm>
            <a:off x="1500120" y="4016520"/>
            <a:ext cx="6143760" cy="1949400"/>
          </a:xfrm>
          <a:prstGeom prst="rect">
            <a:avLst/>
          </a:prstGeom>
          <a:ln w="0">
            <a:noFill/>
          </a:ln>
        </p:spPr>
      </p:pic>
      <p:pic>
        <p:nvPicPr>
          <p:cNvPr id="277" name="Snap9" descr=""/>
          <p:cNvPicPr/>
          <p:nvPr/>
        </p:nvPicPr>
        <p:blipFill>
          <a:blip r:embed="rId2"/>
          <a:stretch/>
        </p:blipFill>
        <p:spPr>
          <a:xfrm>
            <a:off x="725400" y="2440080"/>
            <a:ext cx="3921120" cy="1280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Snap12" descr=""/>
          <p:cNvPicPr/>
          <p:nvPr/>
        </p:nvPicPr>
        <p:blipFill>
          <a:blip r:embed="rId1"/>
          <a:stretch/>
        </p:blipFill>
        <p:spPr>
          <a:xfrm>
            <a:off x="725400" y="2257560"/>
            <a:ext cx="4268880" cy="221616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chronizing Persistence.x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d F1 Hel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y Dali view you can hit F1 to get context specific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28600" y="2333520"/>
            <a:ext cx="6886800" cy="3838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li 0.5 Release Fea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majority of annotations including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with WTP RDB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PA Details view supports mapping using database schema with table and column drop dow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time validation of mappings against object and data model (including unspecified default mapp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markers (e.g., Entity missing @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zards for basic Entity generation from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li 1.0 Fea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XML Mapping File (orm.xml)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same views as JPA Annotation e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with Data Tools Platform (DTP) for database meta-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t based functionality for better integration with various WTP projec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ility for vendor specific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PA Application Development Scenari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Approaches using D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in the Mid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object and data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mapped object model from data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data model from mapped objec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ut Java Persistence API (JPA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document bundled as part of  EJB 3.0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for use in different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 in Java S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ed within a Java EE Contain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ation of current persistence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ing of expertise from persistence vendors and communities including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pLink, Hibernate, JDO, EJB vendors and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et In the Middle (MIT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vantage of MITM is that you can focus on getting your object model and data models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 !=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able could be N classes (using embed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tables could be 1 class (with secondary 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Java language features like inheritance not present in relationa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i’s validation makes MITM prac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s map, deploy, debug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ccess to database schema to provide valid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ttom U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Entities from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way to bootstrap a JPA application from an existing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n Entity == Table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it once and then modify the generated 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li mapping validation will help identify issues resulting from modifications to 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 Dow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DDL from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pport in Dali 0.5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d in 1.0 in favor of using full featured support implemented by JPA run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 point in Dali to allow for plugging in runtime DDL gen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li Ado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25040" y="1523520"/>
            <a:ext cx="7737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5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majority of resources for D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5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to build extensions to Dali for Oracle TopLink and TopLink Essentials run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Hat/JB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5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ing Dali into JBossIDE as part of Hibernate/JPA tool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5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ing incorporating Dali into BEA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5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pped Dali in Eclipse based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P NetWeaver Developer Stud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ava EE 5 p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5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ing Dali into future tooling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s of Dali 1.0 (of WTP 2.0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level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XML mapping (orm.xml) (Mostly comple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class component of WTP—integrated as project facet (Comple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design-time validation for XML and Java Annotations mappings as well as the combination as defined by the spec. (Comple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from WTP RDB to Data Tools Project for database access. (Comple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PI for adopters/extenders to add runtime specific features (e.g., DDL generation) (Still ad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PA—the new Java EE standard for object-relational mapping (inside and outside of a contain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i—the WTP project bringing developer productivity to J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validation to avoid the map, deploy, debug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ligent mapping assistance to avoid problems and speed up the process of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with WTP to support development for Java SE and 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7277040" y="1486080"/>
          <a:ext cx="1257480" cy="7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77040" y="1486080"/>
                    <a:ext cx="125748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75248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250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6767640" y="3852720"/>
            <a:ext cx="1019160" cy="4669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7184880" y="2421000"/>
            <a:ext cx="1495440" cy="7905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6638760" y="4883040"/>
            <a:ext cx="1371600" cy="3430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1250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li JPA Tools—open source tools for JPA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http://www.eclipse.org/d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B 3.0 &amp; JPA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http://www.jcp.org/en/jsr/detail?id=2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Link Essentials—open source JPA Reference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http://otn.oracle.com/jpa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http://glassfish.dev.java.ne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PA white papers, tutorials and oth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http://otn.oracle.com/j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va Developer’s Journal—September 2006: Hello Dal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maglogo" descr=""/>
          <p:cNvPicPr/>
          <p:nvPr/>
        </p:nvPicPr>
        <p:blipFill>
          <a:blip r:embed="rId6"/>
          <a:stretch/>
        </p:blipFill>
        <p:spPr>
          <a:xfrm>
            <a:off x="7404120" y="5418000"/>
            <a:ext cx="1535040" cy="5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PA—in a Nutshe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ava standard that def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Java objects are stored in relational databases (specified using a standard set of mapp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grammer API for reading, writing, and querying persistent Java objects (“Entitie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ull featured query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tainer contract that supports plugging any JPA runtime in to any compliant contai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PA—POJO Ent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ret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required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required business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required callback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() for instance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access or getter/setter meth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contain logic (e.g. for validat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aged” by an Entity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leave the Container  (become “detached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-Relational Mapp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JPA Mapp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eTo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eToMany/ManyTo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yTo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 mo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specified using Annotations or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PA Entity—Mappings on Fiel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5120" y="1628640"/>
            <a:ext cx="77724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5720" y="1546200"/>
            <a:ext cx="794376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Courier New"/>
              </a:rPr>
              <a:t>@Entity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7f0055"/>
                </a:solidFill>
                <a:latin typeface="Courier New"/>
              </a:rPr>
              <a:t>public clas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Customer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Courier New"/>
              </a:rPr>
              <a:t>@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7f0055"/>
                </a:solidFill>
                <a:latin typeface="Courier New"/>
              </a:rPr>
              <a:t>private String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c0"/>
                </a:solidFill>
                <a:latin typeface="Courier New"/>
              </a:rPr>
              <a:t>nam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Courier New"/>
              </a:rPr>
              <a:t>@OneTo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7f0055"/>
                </a:solidFill>
                <a:latin typeface="Courier New"/>
              </a:rPr>
              <a:t>priva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Account </a:t>
            </a:r>
            <a:r>
              <a:rPr b="1" lang="en-GB" sz="2000" spc="-1" strike="noStrike">
                <a:solidFill>
                  <a:srgbClr val="0000c0"/>
                </a:solidFill>
                <a:latin typeface="Courier New"/>
              </a:rPr>
              <a:t>accou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7f0055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getName() { return </a:t>
            </a:r>
            <a:r>
              <a:rPr b="1" lang="en-GB" sz="2000" spc="-1" strike="noStrike">
                <a:solidFill>
                  <a:srgbClr val="0000c0"/>
                </a:solidFill>
                <a:latin typeface="Courier New"/>
              </a:rPr>
              <a:t>nam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7f0055"/>
                </a:solidFill>
                <a:latin typeface="Courier New"/>
              </a:rPr>
              <a:t>public voi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setName(String nam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7f0055"/>
                </a:solidFill>
                <a:latin typeface="Courier New"/>
              </a:rPr>
              <a:t>thi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GB" sz="2000" spc="-1" strike="noStrike">
                <a:solidFill>
                  <a:srgbClr val="0000c0"/>
                </a:solidFill>
                <a:latin typeface="Courier New"/>
              </a:rPr>
              <a:t>nam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= 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7f0055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ccount getAccount() {</a:t>
            </a:r>
            <a:r>
              <a:rPr b="1" lang="en-GB" sz="2000" spc="-1" strike="noStrike">
                <a:solidFill>
                  <a:srgbClr val="7f0055"/>
                </a:solidFill>
                <a:latin typeface="Courier New"/>
              </a:rPr>
              <a:t> return </a:t>
            </a:r>
            <a:r>
              <a:rPr b="1" lang="en-GB" sz="2000" spc="-1" strike="noStrike">
                <a:solidFill>
                  <a:srgbClr val="0000c0"/>
                </a:solidFill>
                <a:latin typeface="Courier New"/>
              </a:rPr>
              <a:t>accou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7f0055"/>
                </a:solidFill>
                <a:latin typeface="Courier New"/>
              </a:rPr>
              <a:t>public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oid setAccount(Account accoun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7f0055"/>
                </a:solidFill>
                <a:latin typeface="Courier New"/>
              </a:rPr>
              <a:t>thi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GB" sz="2000" spc="-1" strike="noStrike">
                <a:solidFill>
                  <a:srgbClr val="0000c0"/>
                </a:solidFill>
                <a:latin typeface="Courier New"/>
              </a:rPr>
              <a:t>accou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= accou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PA Entity—Mappings on Proper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5120" y="1628640"/>
            <a:ext cx="77724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5720" y="1546200"/>
            <a:ext cx="794376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Courier New"/>
              </a:rPr>
              <a:t>@Entity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7f0055"/>
                </a:solidFill>
                <a:latin typeface="Courier New"/>
              </a:rPr>
              <a:t>public clas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Customer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7f0055"/>
                </a:solidFill>
                <a:latin typeface="Courier New"/>
              </a:rPr>
              <a:t>private String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c0"/>
                </a:solidFill>
                <a:latin typeface="Courier New"/>
              </a:rPr>
              <a:t>nam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7f0055"/>
                </a:solidFill>
                <a:latin typeface="Courier New"/>
              </a:rPr>
              <a:t>priva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Account </a:t>
            </a:r>
            <a:r>
              <a:rPr b="1" lang="en-GB" sz="2000" spc="-1" strike="noStrike">
                <a:solidFill>
                  <a:srgbClr val="0000c0"/>
                </a:solidFill>
                <a:latin typeface="Courier New"/>
              </a:rPr>
              <a:t>accou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Courier New"/>
              </a:rPr>
              <a:t>@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7f0055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getName() { return </a:t>
            </a:r>
            <a:r>
              <a:rPr b="1" lang="en-GB" sz="2000" spc="-1" strike="noStrike">
                <a:solidFill>
                  <a:srgbClr val="0000c0"/>
                </a:solidFill>
                <a:latin typeface="Courier New"/>
              </a:rPr>
              <a:t>nam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7f0055"/>
                </a:solidFill>
                <a:latin typeface="Courier New"/>
              </a:rPr>
              <a:t>public voi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setName(String nam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7f0055"/>
                </a:solidFill>
                <a:latin typeface="Courier New"/>
              </a:rPr>
              <a:t>thi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GB" sz="2000" spc="-1" strike="noStrike">
                <a:solidFill>
                  <a:srgbClr val="0000c0"/>
                </a:solidFill>
                <a:latin typeface="Courier New"/>
              </a:rPr>
              <a:t>nam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= 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Courier New"/>
              </a:rPr>
              <a:t>@OneTo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7f0055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ccount getAccount() {</a:t>
            </a:r>
            <a:r>
              <a:rPr b="1" lang="en-GB" sz="2000" spc="-1" strike="noStrike">
                <a:solidFill>
                  <a:srgbClr val="7f0055"/>
                </a:solidFill>
                <a:latin typeface="Courier New"/>
              </a:rPr>
              <a:t> return </a:t>
            </a:r>
            <a:r>
              <a:rPr b="1" lang="en-GB" sz="2000" spc="-1" strike="noStrike">
                <a:solidFill>
                  <a:srgbClr val="0000c0"/>
                </a:solidFill>
                <a:latin typeface="Courier New"/>
              </a:rPr>
              <a:t>accou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7f0055"/>
                </a:solidFill>
                <a:latin typeface="Courier New"/>
              </a:rPr>
              <a:t>public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oid setAccount(Account accoun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7f0055"/>
                </a:solidFill>
                <a:latin typeface="Courier New"/>
              </a:rPr>
              <a:t>thi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GB" sz="2000" spc="-1" strike="noStrike">
                <a:solidFill>
                  <a:srgbClr val="0000c0"/>
                </a:solidFill>
                <a:latin typeface="Courier New"/>
              </a:rPr>
              <a:t>accou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= accou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7439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PA Entity—Mappings in X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3f7f7f"/>
                </a:solidFill>
                <a:latin typeface="Courier New"/>
              </a:rPr>
              <a:t>entity-mappings </a:t>
            </a:r>
            <a:r>
              <a:rPr b="1" lang="en-US" sz="2000" spc="-1" strike="noStrike">
                <a:solidFill>
                  <a:srgbClr val="7f007f"/>
                </a:solidFill>
                <a:latin typeface="Courier New"/>
              </a:rPr>
              <a:t>xmln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2a00ff"/>
                </a:solidFill>
                <a:latin typeface="Courier New"/>
              </a:rPr>
              <a:t>"http://java.sun.com/xml/ns/persistence/or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3f7f7f"/>
                </a:solidFill>
                <a:latin typeface="Courier New"/>
              </a:rPr>
              <a:t>entity </a:t>
            </a:r>
            <a:r>
              <a:rPr b="1" lang="en-US" sz="2000" spc="-1" strike="noStrike">
                <a:solidFill>
                  <a:srgbClr val="7f007f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2a00ff"/>
                </a:solidFill>
                <a:latin typeface="Courier New"/>
              </a:rPr>
              <a:t>“Customer"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3f7f7f"/>
                </a:solidFill>
                <a:latin typeface="Courier New"/>
              </a:rPr>
              <a:t>attributes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3f7f7f"/>
                </a:solidFill>
                <a:latin typeface="Courier New"/>
              </a:rPr>
              <a:t>id </a:t>
            </a:r>
            <a:r>
              <a:rPr b="1" lang="en-US" sz="2000" spc="-1" strike="noStrike">
                <a:solidFill>
                  <a:srgbClr val="7f007f"/>
                </a:solidFill>
                <a:latin typeface="Courier New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2a00ff"/>
                </a:solidFill>
                <a:latin typeface="Courier New"/>
              </a:rPr>
              <a:t>“name“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3f7f7f"/>
                </a:solidFill>
                <a:latin typeface="Courier New"/>
              </a:rPr>
              <a:t>one-to-one </a:t>
            </a:r>
            <a:r>
              <a:rPr b="1" lang="en-US" sz="2000" spc="-1" strike="noStrike">
                <a:solidFill>
                  <a:srgbClr val="7f007f"/>
                </a:solidFill>
                <a:latin typeface="Courier New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2a00ff"/>
                </a:solidFill>
                <a:latin typeface="Courier New"/>
              </a:rPr>
              <a:t>“account“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n-US" sz="2000" spc="-1" strike="noStrike">
                <a:solidFill>
                  <a:srgbClr val="3f7f7f"/>
                </a:solidFill>
                <a:latin typeface="Courier New"/>
              </a:rPr>
              <a:t>attributes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n-US" sz="2000" spc="-1" strike="noStrike">
                <a:solidFill>
                  <a:srgbClr val="3f7f7f"/>
                </a:solidFill>
                <a:latin typeface="Courier New"/>
              </a:rPr>
              <a:t>entity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&lt;/entity-mapping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>Industrie Brand Partners</dc:creator>
  <dc:description/>
  <dc:language>en-US</dc:language>
  <cp:lastModifiedBy>nhauge</cp:lastModifiedBy>
  <dcterms:modified xsi:type="dcterms:W3CDTF">2007-04-18T05:10:53Z</dcterms:modified>
  <cp:revision>497</cp:revision>
  <dc:subject>IBM Presentation System</dc:subject>
  <dc:title>IBM blue-and-black template with image</dc:title>
</cp:coreProperties>
</file>