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DB1-8382-4141-9578-77AFBA3A6F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S -&gt; Procedural Reason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S -&gt; dMars -&gt; AgentSpeak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MR12"/>
              </a:rPr>
              <a:t>Barry G. Silverman. </a:t>
            </a:r>
            <a:r>
              <a:rPr b="0" lang="pt-BR" sz="1200" spc="-1" strike="noStrike">
                <a:solidFill>
                  <a:srgbClr val="000000"/>
                </a:solidFill>
                <a:latin typeface="CMR17"/>
              </a:rPr>
              <a:t>More Realistic Human Behavior Models for Agents in Virtual Worlds: Emotion, Stress, and Value Ontologies. University of Pennsilvania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IDE: </a:t>
            </a: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Electronic Institutions Development Environment -&gt; to support the specification, design and deployment of Electronic In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ISLANDER: ferramenta de especificação gráfica. Verificação de integridade, correção do protocolo, e correção das nor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SIMDEI: simulação para teste rápido de especific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aBUILDER: construção de ag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NewRomanPSMT"/>
              </a:rPr>
              <a:t>AMELI: carrega especificação e funciona como infra-estrutura mediadora, Governor: verifica se mensagens são válidas com base na especific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64E-1A47-44A4-9D95-4E35FCD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2CC-547E-49AF-8B5B-1796E66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5A7-C66E-4380-9561-75FA71AB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B05-0245-4161-98E0-1D79F294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745-805B-4BE4-BDDF-47587335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B831-4D6E-4F89-ADD1-2756E78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3E57-6651-46C1-BA47-3E4F55A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B919-BB05-45BC-B85C-021CEC3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FCC-F49C-4E31-9A2B-3C628AB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8C2-68B4-47DA-888E-2EEA01C7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20D3-35DF-4531-81C3-9344A09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718-248E-4905-A8E8-7EE2A11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E24-D904-4595-8B97-4982F82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BC6A-6102-4798-AF73-978D791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7195-CF82-42EC-BE5A-09725BB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0355-ECC8-4E45-98DA-74CCF31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964C-75F4-431F-97E7-F4B954A2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BEC-0E75-4018-BA8C-8C81C446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CF9-C902-4E96-80B1-ED2CF00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A56-6D87-4A14-BED5-E7A4B610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51F-2FCF-4FB8-9FAB-0F97E72E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C16-5228-4EA6-8263-65953D9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CAA-3CE9-43D2-B999-4491C16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DE4-D7F3-4EBB-B173-ECCF49E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FEA-88B5-46BB-B3CC-643B7BB1457B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E19-89FB-4472-8914-DDF99D402C5D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ipa.org/" TargetMode="External"/><Relationship Id="rId2" Type="http://schemas.openxmlformats.org/officeDocument/2006/relationships/hyperlink" Target="http://act-r.psy.cmu.edu/" TargetMode="External"/><Relationship Id="rId3" Type="http://schemas.openxmlformats.org/officeDocument/2006/relationships/hyperlink" Target="http://sitemaker.umich.edu/soar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epository.upenn.edu/hms/34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Um arcabouço para desenvolvimento de agentes inteligentes em mundos virtuais norma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Doutorando: Archias Alves de Almeida Filh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Orientador: Prof. Dr. Flávio Soares Corrê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Departamento de Ciência da Computaçã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Instituto de Matemática e Estatística – Universidade de São Paul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archias@gmail.co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Virtu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03400" y="1676520"/>
            <a:ext cx="7699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g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É qualquer coisa que pode ser vista como percebendo seu ambiente através de sensores e agindo sobre o mesmo por meio de atua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 Abstrata de Agen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484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s Cognitivas de Ag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egundo Wooldridg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aseados em Lóg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Reativ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rquitetura de subsumption (Brook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Teleo reactive pr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DI (Belief-Desire-Intentio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M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m cam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D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inguagens e sistem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NimbusRomNo9L-Medi"/>
              </a:rPr>
              <a:t>PRS, dMARS, JACK, JAM, Jadex, Practitio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NimbusRomNo9L-Medi"/>
              </a:rPr>
              <a:t>AgentSpeak(L), 3APL, Dribble, and Coo-BDI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163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So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90840" y="1676520"/>
            <a:ext cx="49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GRUE (Goal and Resource</a:t>
            </a: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Using architecturE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 Goal Processing Architecture for Game Ag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eleo Reactive Progr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186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quitetura Deseja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9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JA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Java Agent Development Enviro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amework para escrever aplicações de agentes compatíveis com a especificação FIPA para sistemas multiagentes inteligentes interoperáve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mplementa: AMS (Agent Management System), ACC (Agent Communication Channel), DF (Directory Facilitator) e ACL (Agent Communication Languag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IP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oundation for Intelligent Physical Ag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ssociação Internacional sem fins lucrativos cujo objetivo é produzir especificações para tecnologias de agentes genéric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IPA97 – primeira especificaçã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gent Management System (AMS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mantém diretório de agentes residentes e controla o seu ciclo de v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gent Communication Channel (AC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nal de comunicação básica entre agentes dentro e fora da platafor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mbientes 3-D são mais intuitivos e promovem maior imersã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opularização de Mundos Virtuai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o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ralelização dos computadores permitirá o uso de agentes mais sofisticad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IPA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IPA9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Directory Facilitator (D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áginas amarel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gent Communication Language (AC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odificação e semântica das mensage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arecido com KQ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gração Agente-Software; Mobilidade; Segurança; Serviço de Ontologia; Comunicação homem-ag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tividades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tudo de ambientes normativos (2 mes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colha de ambiente base e proposta de adaptações (4 meses) *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tudo de arquiteturas cognitivas (2 mes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scolha de arquitetura base e proposta de adaptações para trabalhar com o ambiente normativo proposto (4 meses) *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* - possibilidade de ter artigo para publicaçã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tividades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efinição de prova de conceito (1 mê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Escolha de ambiente para implementação de prova de conceito (2 mê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mplementação de prova de conceito (6 meses)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e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* - possibilidade de ter artigo para publicaçã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ssíveis Conferênci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utonomous Agents and Multi-Agent Systems (AAMA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lligent Virtual Agents (IV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rtificial Intelligence for Interactive Digital Entertainment (AIID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mputer Animation and Social Agents (CAS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yberworl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mpósio Brasileiro de Jogos para Computador e Entretenimento Digital (SBGam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ssíveis Publicaç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The Journal of Computer Animation and Virtual World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EEE Computational Intelligence Magaz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mmunications of the AC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ecture Notes in Artificial Intellig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Stuart Russel and Peter Norvig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Artificial Intelligence a Modern Approach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rentice Hall. Pearson Education International, Upper Saddle River, New Jersey, USA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ichael Wooldridge. Intelligent Agen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glesias, C., Garijo, M., González, J.: A Survey of Agent-Oriented Methodologies. In Muller, J., Singh, M., Rao, A., eds.: Intelligent Agents V: Agent Theories, Architectures, and Languages (ATAL’98). Volume 1555 of Lecture Notes in Artificial Intelligence., Springer-Verlag: Heidelberg, Germany (1999) 317–33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lizabeth Gordon e Brian Logan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GRUE: A Goal Processing Architecture for Game Agent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Computer Science Technical Report No. NOTTCS-WP-2003-1. Nottingham, UK, 200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Fabio Bellifemine, Agostino Poggi, e Giovanni Rimassa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Developing Multi-agent Systems with JAD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em: Intelligent Agents VII, LNAI 1986, pp. 89–103, 2001. Springer-Verlag Berlin Heidelberg 200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ordini et al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A Survey of Programming Languages and Platforms for Multi-Agent Systems.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formatica 30 (2006) 33–4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NimbusRomNo9L-Regu"/>
              </a:rPr>
              <a:t>Bibliografia - III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oundation for Intelligent Physical Agents. Specifications. 1999. Available at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fipa.org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fficial ACT-R site: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act-r.psy.cmu.edu/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. d’Inverno, D. Kinny, M. Luck, and M. Wooldridge, “A formal specification of dMARS,” in Proc. of ATAL’97, 1997, pp. 155–17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fficial Soar site: </a:t>
            </a:r>
            <a:r>
              <a:rPr b="0" lang="pt-BR" sz="28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http://sitemaker.umich.edu/soar</a:t>
            </a:r>
            <a:r>
              <a:rPr b="0" lang="pt-BR" sz="2800" spc="-1" strike="noStrike">
                <a:solidFill>
                  <a:srgbClr val="eaeaea"/>
                </a:solidFill>
                <a:latin typeface="CMR12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CMR12"/>
              </a:rPr>
              <a:t>Bibliografia - IV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arry G. Silverman. More Realistic Human Behavior Models for Agents in Virtual Worlds: Emotion, Stress, and Value Ontologies. University of Pennsilvania, Technical Report, 2001. Em: </a:t>
            </a:r>
            <a:r>
              <a:rPr b="0" lang="pt-BR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pository.upenn.edu/hms/3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. Bogdanovich,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Virtual Institution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, PhD Thesis, University of Technology Sydney, Australia, 200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rc Esteva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Electronic Institutions: From Specification to Development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hD thesis, Institut d’Investigaci´o en Intellig`encia Artificial (IIIA), Spain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erhard Weiss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Multiagent Systems: A Modern Approach to Distributed Artificial Intelligenc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MIT Press, Cambridge, MA, USA, 200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TimesNewRomanPSMT"/>
              </a:rPr>
              <a:t>Bibliografia - V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uan Antonio Rodriguez.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On the Design and Construction of Agent-Mediated Electronic Institution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PhD thesis, Artificial Intelligence Research Institute (IIIACSIC), Spain, 200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uido Boella, Leendert van der Torre, and Harko Verhagen. Introduction to normative multiagent systems. In Guido Boella, Leon van der Torre, and Harko Verhagen, editors, 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</a:rPr>
              <a:t>Normative Multi-agent Systems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, number 07122 in Dagstuhl Seminar Proceedings, pages 71–79. Internationales Begegnungs- und Forschungszentrum fuer Informatik (IBFI), Schloss Dagstuhl, Germany, 2007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- 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pesar do grande uso de NPCs (Non-Player Characters) em jogos, quase não são usados em mundos virtuais. Por quê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ogos são ambientes bem controlados e as modalidades de interação entre NPCs e pessoas são bem limitad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existem elementos de software que facilitem o desenvolvimento de agentes inteligentes para mundos virtuai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ibliografia - V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iviana Mascardi, Daniela Demergasso, Davide Ancona.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Languages for Programming BDI-style Agents: an Overview, 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Proceedings of Joint Workshop “From Objects to Agents”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, 2005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. Morreale, S. Bonura, G. Francaviglia, F. Centineo, M. Cossentino, and S. Gaglio, “Reasoning about goals in BDI agents: the PRACTIONIST framework,” in </a:t>
            </a:r>
            <a:r>
              <a:rPr b="0" i="1" lang="pt-BR" sz="2800" spc="-1" strike="noStrike">
                <a:solidFill>
                  <a:srgbClr val="eaeaea"/>
                </a:solidFill>
                <a:latin typeface="Arial"/>
              </a:rPr>
              <a:t>Proceedings of Joint Workshop “From Objects to Agents”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, 200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ivação – I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mo fazer para manter a ilusão de vida em mundos virtuai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ssar no teste de Turing 3D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ntrolar ambiente e limitar interação entre pessoas e agen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Obrigatório) Desenvolver/adaptar arcabouço de desenvolvimento de agentes para usar em mundos virtuais normativos imersiv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Obrigatório) Desenvolver prova de conceito em exemplo(s) a ser definid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Desejável) Desenvolver ferramentas que facilitem o desenvolvimento de agentes para mundos virtuais normativos imersiv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(Desejável) Mostrar que limitação das modalidades de interação permite criação de agentes mais convinc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Base Teór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etodologias de desenvolvimento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stituições Eletrônicas / EIDE, Instituições Virtua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GAIA, DESIRE, ADEPT, FAF, MaSE, MAS-CommonKADS, TROPOS, AUML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rquiteturas Cognitivas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DI, dMars, ACT-R, Soar, GRUE, CHREST, CLARION, DUAL, EPIC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ameworks para desenvolvimento de Agent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JADE, dMars, EIDE, RETSINA, MO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IPA (Foundation for Intelligent Physical Agen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Eletrô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nstituições Eletrônicas são sistemas de softwares compostos de entidades autônomas, humanos ou agentes autônomos, que interagem de acordo com convenções predefinidas de linguagem e protocolo que garantem que certas normas de comportamento são segui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IDE (Electronic Institution Development Environment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3" name="eide" descr=""/>
          <p:cNvPicPr/>
          <p:nvPr/>
        </p:nvPicPr>
        <p:blipFill>
          <a:blip r:embed="rId1"/>
          <a:stretch/>
        </p:blipFill>
        <p:spPr>
          <a:xfrm>
            <a:off x="2084400" y="1676520"/>
            <a:ext cx="573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nstituições Virtu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Metodologia baseada no conceito de instituições eletrôn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daptado para mundos virtuais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m vez de definir o que pode ser feito, normatiza o que não pode ser fe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ases de desenvolviment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specificação das regras de inter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rojeto do ambiente de interação 3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amadas conceituai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amada de Controle Normativ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amada Visual de Inter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chias Alves de Almeida</cp:lastModifiedBy>
  <dcterms:modified xsi:type="dcterms:W3CDTF">2008-08-25T13:51:17Z</dcterms:modified>
  <cp:revision>14</cp:revision>
  <dc:subject/>
  <dc:title>PowerPoint Presentation</dc:title>
</cp:coreProperties>
</file>